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1FC9-53E0-4C52-8AEC-C7B6BFA85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CE15-E714-4CBE-AB46-8D0100C6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370D-DE6B-4CD6-8410-4976CDEA7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97BB-D95B-4630-B924-49E654792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47E6-D740-4994-9E9B-9B08B691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6CFF-683B-4AFB-B925-B383AB99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6570-FE0A-4671-9CD0-51284148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29DB-AB36-413D-ABFA-FF90A188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F819-F5D4-4DF0-AF46-1CEE7D3E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9D83-0A1A-4D5B-AFBA-0ED52EFE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E112-8F95-43A8-A6B1-A8998B80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E2DD-76DD-43D6-85C6-85444A64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8CEE-B495-4D4E-B4B4-29C2AD9EF3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AFT 01/31/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9CB2-4924-4EDF-A9FD-1D77BE0595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fers of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rtgage Loans to RMBS Tru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Kathleen G. Cu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uritization and Servicing Semin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9,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AFT 01/31/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vel 2: Notes/Article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001 revisions uniform in all 50 states, DC, P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vers sales of notes as well as pledg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§ 9-203: transfers effective and attach per contract; include security for no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§ 9-309(4): automatic perfection against third parties on attach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ansfers of notes effective at clos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vers ownership/title among parties to contract, not entire chain of title required for stan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AFT 01/31/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doll1.tiff"/>
          <p:cNvPicPr/>
          <p:nvPr/>
        </p:nvPicPr>
        <p:blipFill>
          <a:blip r:embed="rId1"/>
          <a:stretch/>
        </p:blipFill>
        <p:spPr>
          <a:xfrm>
            <a:off x="0" y="304920"/>
            <a:ext cx="76212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vel 3: Mortg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wnership/title/security follows notes (UCC § 9-203(g)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ersedes common law of states where mortgage didn’t follow note (minorit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rees with law of states (majority) where mortgage followed no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tle/deed of trust states: trustee represents borrower and lender = its assignees (Article 9/endorse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ERS attempts to implement mortgage following note in all states; depends on state law and good procedur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 all cases, subject to applicable state law as to perfection/recording/foreclosure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AFT 01/31/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doll1.tiff"/>
          <p:cNvPicPr/>
          <p:nvPr/>
        </p:nvPicPr>
        <p:blipFill>
          <a:blip r:embed="rId1"/>
          <a:stretch/>
        </p:blipFill>
        <p:spPr>
          <a:xfrm>
            <a:off x="304920" y="457200"/>
            <a:ext cx="5331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TCC for mortgages: not objectionable in princip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alidity subject to state la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cedures MUST be demonstrably relia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s a nominee, not a real party in interest; lacks standing to foreclose in its own na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wner (not holder) of note/security only party that can foreclo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RS can foreclose only as nominee for named owner with proof of authority to 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AFT 01/31/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te: NY Trust La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ggested that NY trust law requires physical delivery of notes to effect funding of trust, therefore no trust until such delivery made (notwithstanding payment at and distributions after closin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pparent basis: cases involving gifts and will substitu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t with RMBS trusts, as distinct from gift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ideration is paid at clo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nsaction is not revoc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neficiaries receive certificates akin to shares or bon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Y EPTL requires delivery only for lifetime trusts (§ 7-1.18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t business and investment trusts (= RMBS trusts) are excluded from definition of lifetime trusts (EPTL § 1-2.2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mits them to operate like other businesses and investment compan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lls into question cases prior to effective date (Sept. 1, 196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AFT 01/31/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rely holding note not sufficient for foreclosure or relief from stay/proof of clai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oan owner must prove standing by providing evidence of ownership (e.g., Statute of Fraud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anding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ain of contractual assignments and/or indorsements of notes from original lender to t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foreclose, evidence of security interest at relevant time under state la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n own loan/mortgage but lack stan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AFT 01/31/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olution of Standing Imp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btain properly indorsed note/assigned mortgage from document custodian under PS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ould be possible in majority of ca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rvicers probably have resisted because of cost and dela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f not available from document custodian, loan owner ca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btain judgment under note alone as unsecured Art. 3 holder; record judgment, obtaining judicial lien; then foreclose as judicial lienholder, clearing tit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gotiate modification that borrower can afford; when property sold or note paid off, record satisfaction using affidavit satisfying state law and accurately describing loan owner’s statu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o “free house”: recorded mortgage persists, creating cloud on title; borrower can’t refinance or sell proper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AFT 01/31/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laimers and Cavea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 overview of “standard” US la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specific state law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case research, except as referenc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r state law may diff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entation necessarily drastically oversimplified; omits technical discussions for lack of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AFT 01/31/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Mortgage Loa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Russian nested do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ortgage loan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ntire package of rights associated with the loan, including the note, security, servicing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ten, and confusingly, called a “mortgage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missory note = the evidence of the deb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ecurity (mortgage, deed of trust, etc.) = the mortgage (“dead hand”) it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AFT 01/31/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doll1.tiff"/>
          <p:cNvPicPr/>
          <p:nvPr/>
        </p:nvPicPr>
        <p:blipFill>
          <a:blip r:embed="rId1"/>
          <a:stretch/>
        </p:blipFill>
        <p:spPr>
          <a:xfrm>
            <a:off x="0" y="1981080"/>
            <a:ext cx="933480" cy="1600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doll1.tiff"/>
          <p:cNvPicPr/>
          <p:nvPr/>
        </p:nvPicPr>
        <p:blipFill>
          <a:blip r:embed="rId2"/>
          <a:stretch/>
        </p:blipFill>
        <p:spPr>
          <a:xfrm>
            <a:off x="0" y="3429000"/>
            <a:ext cx="762120" cy="1306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doll1.tiff"/>
          <p:cNvPicPr/>
          <p:nvPr/>
        </p:nvPicPr>
        <p:blipFill>
          <a:blip r:embed="rId3"/>
          <a:stretch/>
        </p:blipFill>
        <p:spPr>
          <a:xfrm>
            <a:off x="152280" y="4495680"/>
            <a:ext cx="5335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vel 1: loan to trust via contract law (mortgage loan purchase agreement, pooling and servicing agreement, etc. (collectively, “PSA”)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vel 2: note to trust via both (belt and suspender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CC Article 9 and contract la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raditional indorsement and delive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vel 3: security to trust v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CC Article 9 and note (and state law where mortgage follows not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raditional assignment and delive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AFT 01/31/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doll1.tiff"/>
          <p:cNvPicPr/>
          <p:nvPr/>
        </p:nvPicPr>
        <p:blipFill>
          <a:blip r:embed="rId1"/>
          <a:stretch/>
        </p:blipFill>
        <p:spPr>
          <a:xfrm>
            <a:off x="0" y="1295280"/>
            <a:ext cx="933480" cy="1600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doll1.tiff"/>
          <p:cNvPicPr/>
          <p:nvPr/>
        </p:nvPicPr>
        <p:blipFill>
          <a:blip r:embed="rId2"/>
          <a:stretch/>
        </p:blipFill>
        <p:spPr>
          <a:xfrm>
            <a:off x="0" y="2895480"/>
            <a:ext cx="762120" cy="1306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doll1.tiff"/>
          <p:cNvPicPr/>
          <p:nvPr/>
        </p:nvPicPr>
        <p:blipFill>
          <a:blip r:embed="rId3"/>
          <a:stretch/>
        </p:blipFill>
        <p:spPr>
          <a:xfrm>
            <a:off x="152280" y="4495680"/>
            <a:ext cx="5335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ticle 9 vs. Artic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rticle 9: security interests and sales of no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wnership and perfection of no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wnership (but not perfection) of secur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rticle 3: negotiable instruments (checks, commercial pape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gnostic as to ownership and tit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vers rights of holders and holders in due course of notes that are negotiable instrum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n enforce no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n not foreclose on security (governed by Article 9 and state law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AFT 01/31/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vel 1: Loans/Contr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 Law of the parties pursuant to UCC § 1-30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finition of “Mortgage Loan”, “Trust Property,” etc. in PSA (includes notes and security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ranting clause: “hereby transfers, sells, grants, assigns, conveys,“ et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oans identifiably specified in schedule or otherwi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ecuted by par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ceipt of consideration (= payment at closing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AFT 01/31/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doll1.tiff"/>
          <p:cNvPicPr/>
          <p:nvPr/>
        </p:nvPicPr>
        <p:blipFill>
          <a:blip r:embed="rId1"/>
          <a:stretch/>
        </p:blipFill>
        <p:spPr>
          <a:xfrm>
            <a:off x="152280" y="0"/>
            <a:ext cx="9334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yment at Clo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idenced by transfers of funds, receipts and cross-receipts for all pa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mediately effec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rmally, not conditioned on delivery of notes or mortg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rmally, no holdback for delivery of notes or mortg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purchase price paid to each entity in ch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AFT 01/31/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yments after Clo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nsistent with sale of loa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rvicer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lects payments from borrow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ducts fees and charges, repayments on foreclos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its required servicer adv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ustee distributes payments to investors per waterfal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B: Servicing fees haven’t changed over time although mortgage performance has deteriorat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n’t cover servicers’ costs of funding/adv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ult: servicers may overcharge borrowers/trusts and foreclose quickly, even disregarding la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AFT 01/31/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livery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Very important even though not required to transfer titl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licate traditional transfer (belt and suspende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fection = protection against conflicting transf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ssession trumps UCC fi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CC filing trumps automatic perfec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forcement: evidence of terms of lo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idence of parties’ intention for transfer process; impeachment of contradictory/inconsistent evi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n sue for specific enforcement/damages for breac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AFT 01/31/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00:31:47Z</dcterms:created>
  <dc:creator>Kathleen Cully</dc:creator>
  <dc:description/>
  <dc:language>en-US</dc:language>
  <cp:lastModifiedBy>Kathleen Cully</cp:lastModifiedBy>
  <dcterms:modified xsi:type="dcterms:W3CDTF">2011-02-16T02:14:12Z</dcterms:modified>
  <cp:revision>114</cp:revision>
  <dc:subject/>
  <dc:title>Transfers of Mortgage Loans  to RMBS Trus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75700584</vt:r8>
  </property>
  <property fmtid="{D5CDD505-2E9C-101B-9397-08002B2CF9AE}" pid="3" name="_AuthorEmail">
    <vt:lpwstr>kgcully@kgcully.com</vt:lpwstr>
  </property>
  <property fmtid="{D5CDD505-2E9C-101B-9397-08002B2CF9AE}" pid="4" name="_AuthorEmailDisplayName">
    <vt:lpwstr>Kathleen G Cully</vt:lpwstr>
  </property>
  <property fmtid="{D5CDD505-2E9C-101B-9397-08002B2CF9AE}" pid="5" name="_EmailSubject">
    <vt:lpwstr>PowerPoints and Exhibits</vt:lpwstr>
  </property>
  <property fmtid="{D5CDD505-2E9C-101B-9397-08002B2CF9AE}" pid="6" name="_NewReviewCycle">
    <vt:lpwstr/>
  </property>
</Properties>
</file>